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ABC-7E49-4280-8FEA-3659D6EC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462-A258-40EF-94C8-0827F64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055-18A8-4F41-B008-ACECD754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5A4-4B30-42DC-AC83-2D3157D1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689-BFAC-4CF1-AF61-A86E5158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4A2-87B3-468C-B7A7-FEFA69F2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CAA-D180-4673-8B1E-A9E740F7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1E0-5FC5-4ECD-8D33-5CA5120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015-8D29-4D4F-97ED-C9F325AF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EF2-3B82-41A4-9F8B-6C9259B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6A0-B6C0-49C4-B9EC-6BEBC62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F80-1E1F-45F0-BBED-5773AEF2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8BF-40DD-4434-898F-23AB2C77C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Comic Sans MS"/>
              </a:rPr>
              <a:t>Pruebas de lóg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Aquí encontrarás varios juegos en los que tendrás que probar la capacidad para resolver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Si tu computador no puede reproducir bien alguno de éstos juegos, haz clic derecho sobre la imagen y reduce 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Ten en cuenta que todas estas pruebas tienen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b2b2b2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ShockwaveFlash1"/>
          <p:cNvGraphicFramePr/>
          <p:nvPr/>
        </p:nvGraphicFramePr>
        <p:xfrm>
          <a:off x="684360" y="404640"/>
          <a:ext cx="784836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04640"/>
                    <a:ext cx="7848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84360" y="587700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Intercambia la posición de las ranas verdes con las ranas caf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57340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Ayuda al granjero a cruzar al lobo, la oveja y los repollos al otro lado. Recuerda: Los lobos comen ovejas y las ovejas comen repo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ShockwaveFlash1"/>
          <p:cNvGraphicFramePr/>
          <p:nvPr/>
        </p:nvGraphicFramePr>
        <p:xfrm>
          <a:off x="395280" y="285840"/>
          <a:ext cx="8353440" cy="53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85840"/>
                    <a:ext cx="8353440" cy="53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755640" y="189000"/>
          <a:ext cx="7704000" cy="555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89000"/>
                    <a:ext cx="7704000" cy="555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4000" y="5950080"/>
            <a:ext cx="68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Comic Sans MS"/>
              </a:rPr>
              <a:t>Ayuda a los 3 caníbales y a los 3 misioneros a cruzar al otro lado del lago. Pero cuidado, ya que cuando en un lado hay más caníbales que misioneros, ellos se los co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83080"/>
            <a:ext cx="7632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Ayuda a la familia a cruzar el puente. Ten en cuenta que es de noche y ocupan la linterna para cruz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Cada miembro cruza a una velocidad distinta (1 seg., 3 seg., 6 seg., 8 seg y 12 se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El puente sólo resiste un máximo de 2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Un par debe cruzar a la velocidad del miembro más l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La linterna sólo dura 30 segun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ShockwaveFlash1"/>
          <p:cNvGraphicFramePr/>
          <p:nvPr/>
        </p:nvGraphicFramePr>
        <p:xfrm>
          <a:off x="539640" y="333360"/>
          <a:ext cx="7993080" cy="49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33360"/>
                    <a:ext cx="7993080" cy="496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ShockwaveFlash1"/>
          <p:cNvGraphicFramePr/>
          <p:nvPr/>
        </p:nvGraphicFramePr>
        <p:xfrm>
          <a:off x="468360" y="189000"/>
          <a:ext cx="82072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9000"/>
                    <a:ext cx="8207280" cy="547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6381720"/>
            <a:ext cx="68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6004080"/>
            <a:ext cx="273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Para empezar haz clic en el círculo azu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Máximo 2 personas en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Padre no puede estar con las hijas sin la presencia de la M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5699160"/>
            <a:ext cx="3168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La Madre no puede estar con los hijos sin la presencia del P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Ladrón no puede estar con ningún miembro de la familia sin la presencia del Polic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Solo el Padre, la Madre y el Policía pueden hacer funcionar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661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mic Sans MS"/>
              </a:rPr>
              <a:t>Cruzar el 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2:44:42Z</dcterms:created>
  <dc:creator/>
  <dc:description/>
  <dc:language>en-US</dc:language>
  <cp:lastModifiedBy>jgonza1</cp:lastModifiedBy>
  <dcterms:modified xsi:type="dcterms:W3CDTF">2006-08-17T10:46:46Z</dcterms:modified>
  <cp:revision>10</cp:revision>
  <dc:subject/>
  <dc:title>River IQ Test</dc:title>
</cp:coreProperties>
</file>